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6919-2166-488C-B479-83C9AEEBE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0E46-865D-49AD-9E54-9B491B15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9B1B3-5EB2-4318-8508-8068E7DD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A2380-5C6B-43C9-911A-069EF6B1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F5F2CE-D6B5-4B4B-9FDE-7E900DAB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CC1A2-9B86-48E2-AC38-FF65D383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3BBF6-4C22-4038-996C-882E9B4D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99342-F811-4629-8334-9D7A71B5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EBD28-E850-463C-A179-8DC707A1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0BA7E-6E36-47F1-9C87-D14A42AEA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48673-9A21-4156-A67E-E0F3DE947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C5E5B-F511-4BE6-8198-C14283C35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4AC8-D94D-4186-8209-58A844655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525E4-3427-4037-9848-C5BD1FB5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E94DAD-C6E1-4DF9-8941-1E895559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982FDE-2BAF-40E9-9EF8-9CAB0A62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51EDC5-9629-45C3-AB54-6BBA8054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5BB60B-354F-4A25-AEE0-6D0CDE4F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41403B-B338-4EFD-A64A-9E192D5C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C07665-8382-4B0F-B33A-B8BE620A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B02B8-E9AD-4F27-AD4A-53CEF440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3AD9AC-BF65-4A30-B7DB-DAB92212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AF189-BB87-4541-BABD-EE6B71BF3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4E78-D44A-44E6-A453-0321B7266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D8DC2-B01A-454F-B49D-BFCB8465F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7A077-4083-45BC-8576-D8A3C05F1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44FB0-FF3A-49E7-A80D-B843E914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C2602-DAB5-4E87-8948-2A4E173A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79A2F-DA68-407A-ACF9-69EC8314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BE9CD-764C-436A-804F-E8E41BAE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2F5DC-842F-4E73-960A-79162DC3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C9970-641C-4784-9D64-CE30389E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C1E6A-EA7B-461E-BB2C-C5CD4D06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085EA-565B-4724-8223-9E2C2E70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85E6-F91B-4EAB-A960-F01C2BFB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42023-3D98-48C1-A59A-5C024BE1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9B501-E838-4065-A608-6F079015F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FDFA5-EBE4-42E2-BED8-AC2311E6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6A45D0-E50A-4B9F-86B1-25D512024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EE853B-EB5C-44A9-838B-AE3A82C6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B0819E-2754-45F1-AB92-1DBA9DD4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AC2481-F2D7-479B-A56E-0FF6FCE9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07C0BA-8610-4318-9F25-DF82078C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0830E4-F2C7-494D-91DF-93645E43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67BF8D-74DD-405B-AF03-C144006C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255C-7993-422E-A633-FF34300D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EB2BCD-3849-48AD-A87D-FF32F7A3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4CCED3-0983-4B82-B61C-C69E2014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91240-B378-4BDC-8B03-B64877FE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C7EBD2-AFE4-44F5-A514-86A72B3C3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F6F6B7-7ED3-4C16-87EA-C0A335DF0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BD60-D265-48FA-A00B-1EBDF45E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8383-03B8-4367-999A-0B9EA3E4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B203-F582-49EA-A1D6-C92C0AA7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D6A6-ECCE-489C-81F8-157C42E9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2CD9-B049-4F0A-96BB-D8AFD727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5043-D813-4A15-9B49-FF875077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1AF7-3BC3-44DB-A1ED-14CE00E7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AB81-8C05-4B27-9577-A9902342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B0D6-DF65-4323-8983-BFDC6F13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BB31-AE70-4320-8A93-0D9362B72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6D56-6E84-46C3-880E-3DEFA03A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FD6CC-0E6B-4EC3-828B-C9C5D9CBF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A5E91-7796-4F90-8C68-FC0317C3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0A846-11DB-4C43-8133-4B14D30B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A13FA-9B2C-4BBD-A909-5C49C7DA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6BD64-16B1-4DED-8F96-2E5B7CD8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A8AF-CDEE-4071-A2C7-63351574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2E62A-BA94-47D6-920F-1807486D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047C7-75EB-49DE-A2BB-6DE00454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CD71C-A40C-4148-98E1-3D76B082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B0786-4BDF-4373-B121-7CD0B8FF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6FFF1-114B-4160-AD66-4DA086EB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3B243-2243-4E8F-A988-546D9A7B8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B895D-3CBD-495E-A870-32046A34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E334B-1514-4F17-BE61-E13EB2040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3A07D-E03B-4749-BF5D-2E8E76AB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5E96B-E31D-4E3D-88D0-D3644EED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8AE3-C9AD-4779-A159-526E61E4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D497F-988A-4924-B31C-8D73B0F6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708A6-0A1F-46F6-9A2B-BBD9DD95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E9173-9667-419E-9CB1-97C6BDC1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F6625-09FA-40ED-9499-47038628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8847B-BB54-4047-9A29-B1E6BD31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4495A-288F-41F6-BDDF-EFEECD2B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908D1-337E-4FD5-8D2A-B2624004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CC2D8-DC3B-4485-B68F-8148D9142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1CF72-9CED-4497-8D60-10382703F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6F3F4-AD5B-4A45-ABE1-431DB6AF0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23BC-BAA9-46F0-807D-55767992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05DE2-2EEE-44C8-BB89-56AEEA06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CB18D-18C1-491D-8192-D4B2BC7D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91386-BC5F-4FC4-B6E9-A177DDF8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A3810-ACF9-4342-BDA5-6FCF9AA2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944CB-255B-48A2-A6FE-44D977C1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84FBF-D34A-4922-A2BE-B01A9649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FCA00-28E8-49A4-91B5-2929F55F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E4BD2-D8CD-4E31-9593-DE7C7A2B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6A6A6-E932-4E75-98D4-F4FE2AE5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F4594-DCFF-46FE-8A84-ED13A475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F404-5E50-47E0-B5B3-FAE0FE71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78C57-775F-4E47-97E0-C8905F281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1DE3B-BEA2-4082-A9B6-DEF3513BA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86DC3-FD83-4B47-84F9-B0363767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936FD-06C3-495F-8C92-3CE190A1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0193E-08D5-4B1A-9846-533354DB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6B551-BDEE-473D-84EC-2B969913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56D94-8EEF-40EA-81BA-2D40882F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D53C2-5305-46CB-927F-C3C3DBE1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F7628-1898-489A-B551-6C7C8099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F627F-E2EF-49A9-BD5E-AEF4F71B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AC43-B836-4350-AAD5-9C8BD364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C8662-D5DB-478E-A798-37B498EC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C09F3-1D1B-47B5-A862-5B00DD87E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F4991-01D2-40CF-BA55-4497E0979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08A8D-768E-42EF-9463-516E2E7AD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FF3EF-4E88-469A-8D59-121A01D5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58C89-2AA2-4483-B684-D5B7AFB8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1CDE5-FFC9-4734-BC54-959299E9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093FC-66CA-4BFB-8476-2E3530E6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4DA40-FD57-45C4-8930-B862F90D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C5440-8050-4784-9C6F-BDAAE884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9175-B63F-4990-9133-BF16100D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A297E-ED08-485D-B53C-8B6D3A65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D18AC-E77E-40F0-8DFD-D591F6CB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2A4E4-4281-4567-B150-A78017E1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B87F9-23C8-4002-BF41-A33F7E738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8A178-7AFD-4FBD-B65F-997F84BB0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6CBEC-E4AE-40BC-92D3-839DF2EE3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13B19-6EE1-4782-96F7-E6611BA3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46F03-B029-44EF-98C2-D7C2FD5D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AD284-ADD7-49DD-96D8-11EAA27A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BC191-FD8F-4D9D-BFB9-C673ACB6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7A32-79A7-477F-9333-A34EA04F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D9125-D245-4B35-9B79-BB9C5B94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49231-21CD-4985-B6B3-633A80AE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BD5BB-88D8-4438-9A51-1C504EE3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AB73D-2F41-45A9-88B6-2DF2B2F6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3022F-0C4C-4A00-A228-6961AE83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6CC4E-465B-4590-A4B4-F1DAE56B9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57D29-CCAF-4CC6-BA30-3F456B65F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FB8F9-A194-4862-AA1B-0A8F3F40D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7234D-787C-478C-A07F-DDFEE4BD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A8ABB-C153-48B2-BA87-8C08AF85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53A8-2A7E-4F00-90BD-B5C0118CB62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3566-89C0-413E-96FD-72969366B92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36FB-F9E0-4C9B-A70D-EB036E07F04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BD4E-5D7D-4AD0-85FF-D8D468ADC26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0BC2-5FD3-4D85-928C-1841108E588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8FDD-097E-4DBB-B279-19D70B6E8EE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1FA5-29CE-4D05-967C-D92B31C526B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CC88-9CC2-46F5-AB80-07ADB632D78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7EA3-BE0B-4738-834D-5EC030A025D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62E2-FD26-40A5-AC38-1E67C620FC3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CFA4-5A36-4AD4-8A36-340677B1726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43E4-68F5-4DFA-AD18-AA2511106C9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69 Šťastný je dom, kde vítajú ťa rad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de v tvojej bázni rastú neustál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o všetkom chcú si z teb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klad bra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de piesňami ťa radi oslavujú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robia tvojmu men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cky čes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dostnú zvesť o spáse oznamujú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nažia sa aj iných k tebe v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Šťastný je dom, kde radosť pripravuje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šetkým pokoj do sŕdc zasievaš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Šťastný je dom, kde bolesť odstraňuje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oroby liečiš, smútok zaháňa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raz sa skončia bôle, strasti, bo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áš verným z lásky domov jediný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ám vezmeš k sebe všetky deti svoj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slávnej, krásnej, večnej otčiny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Šťastný je dom, kde vítajú ťa rad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ateľu vzácny, Pane Ježiš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de s tebou chcú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a o všetkom vždy rad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dávajú úctu tebe najvyšši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de sú ti všetky srdcia odovzdané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dôverou k tebe hľadia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rad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tvoju vôľu pýtajú sa,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poslušne ju plnia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vďačn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Šťastný je dom, kde spolu muž i žen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rovnakom duchu teba vzývajú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modlitbách vrúcnych den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kolená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tvojich rúk vždy všetk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kladajú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de obaja sa pevne držia teb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radosti v blahu,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žiali, starosti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utujú svorne za tebou do neb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ou úzkou cestou z tvojej mil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Šťastný je dom,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de už aj deti malé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čia sa, Pane teba poznáva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12T13:41:34Z</dcterms:modified>
  <cp:revision>71</cp:revision>
  <dc:subject/>
  <dc:title>Je veľký náš Pán, on slávy je Kráľ Nech do všetkých strán  spev vrúcnych znie chvál.</dc:title>
</cp:coreProperties>
</file>